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4F44-DEA9-4E4C-B2AE-89499F93A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BCB7-0572-4287-BDCA-641F8EB4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7662-6D98-4AFA-95F0-F7E802DDB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153B-AC54-4C87-A07B-EC3CCCA6E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6744-D4CE-411C-9B75-B380F131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1C87-DCAC-4F63-9EBF-9DE1BD37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EE03-9951-4F74-B967-BFE93CE0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C913-0910-4574-B87E-76EC025D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BB2A-60A1-4C15-A4B8-7051E839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5A61-7F02-4BC4-954E-094F713B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56C0-4329-46FB-B76E-53CCCF3B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FC76-0B32-40FD-87DB-7C18BDFB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E0AF-0B03-4A18-9E1B-A87D46B69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Report to 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1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dney Nieme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37960" y="311040"/>
            <a:ext cx="866808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meet February 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January disturb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Guide and Protocol synchron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R838 Fast Response Distributed Energy Resource (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r. Thomas McAndrew of Enchanted Rock Reliability Services, LLC has requested a delay in order to facilitate faster response during frequency events.  Their plan is to test for successful delivery of energy during frequency events that occurs before the NERC “C point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te design change in early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lect test data to actual frequency events in March and April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 test results to the PDCWG at the May 1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DCWG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cAndrew will contact PRS to request a delay in consideration of the PR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R833 Primary Frequency Response Requirement from Existing WGRs. – E.ON Climate &amp; Renewables North America Inc. Jan 5, 2010 com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CWG will determine if E.ON proposal would w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meeting March 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760" y="0"/>
            <a:ext cx="90964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629400" y="762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S1 = 144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553080" y="5335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7240" y="458640"/>
            <a:ext cx="90295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324480" y="457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2560" y="453960"/>
            <a:ext cx="9038880" cy="59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28440" y="220680"/>
            <a:ext cx="9200880" cy="6419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410080" y="4572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ERCOT 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62920" y="1447920"/>
            <a:ext cx="1752480" cy="307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uary 28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610480" y="175248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8160" y="353880"/>
            <a:ext cx="9220320" cy="6153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162920" y="1676520"/>
            <a:ext cx="1752480" cy="307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uary 28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686800" y="19051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30320"/>
            <a:ext cx="9144000" cy="6600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124080" y="380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CPS1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1143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S1 12 Month Rolling Average = 141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848720" y="175248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35080" y="473040"/>
            <a:ext cx="8673840" cy="59151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6915240" y="123840"/>
            <a:ext cx="16192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2304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ERCOT as a single control area is exempt from CPS2.  These scores are For Information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5880" y="1143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9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81680" y="1371600"/>
            <a:ext cx="9907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7:13:32Z</dcterms:created>
  <dc:creator>Sydney L. Niemeyer</dc:creator>
  <dc:description/>
  <dc:language>en-US</dc:language>
  <cp:lastModifiedBy>sniemeyer</cp:lastModifiedBy>
  <dcterms:modified xsi:type="dcterms:W3CDTF">2010-02-08T19:40:26Z</dcterms:modified>
  <cp:revision>50</cp:revision>
  <dc:subject/>
  <dc:title>Slide 1</dc:title>
</cp:coreProperties>
</file>